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E1D-DD06-4636-A2DC-FF554FC0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D3C-FBFB-46A0-8D24-B818E843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0EF-1017-4A8A-9568-67043A63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46B-2C97-470C-95E1-4B9D754C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050-640A-4F29-9572-A66AA6FA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F6E-F267-479A-8079-F4C51E23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9F8-28AB-4AF5-AB90-C0E9D466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375-8FA1-4116-90AD-ECFB684A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4B2-9C02-4AC5-93F7-CE1502C6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0F8-A58E-48A9-A2F0-0AF89407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4F2-AFC4-4450-963F-9F49BA4F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D9F-55F0-4319-96F2-51D60670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59840"/>
            <a:ext cx="2460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F543-6071-4140-A818-E053EA72B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191120" y="2313360"/>
            <a:ext cx="3136320" cy="4539240"/>
            <a:chOff x="4191120" y="2313360"/>
            <a:chExt cx="3136320" cy="4539240"/>
          </a:xfrm>
        </p:grpSpPr>
        <p:sp>
          <p:nvSpPr>
            <p:cNvPr id="42" name=""/>
            <p:cNvSpPr/>
            <p:nvPr/>
          </p:nvSpPr>
          <p:spPr>
            <a:xfrm>
              <a:off x="4191120" y="3879720"/>
              <a:ext cx="2666520" cy="1397160"/>
            </a:xfrm>
            <a:prstGeom prst="parallelogram">
              <a:avLst>
                <a:gd name="adj" fmla="val 47713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7546400">
              <a:off x="3294360" y="4199760"/>
              <a:ext cx="4594320" cy="766440"/>
            </a:xfrm>
            <a:prstGeom prst="parallelogram">
              <a:avLst>
                <a:gd name="adj" fmla="val 149859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48240" y="3879720"/>
              <a:ext cx="266040" cy="139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89440" y="525312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35280" y="385920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43360" y="4757760"/>
              <a:ext cx="4536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97160" y="4237200"/>
              <a:ext cx="4572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3400" y="449424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16480" y="429588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28880" y="441000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75280" y="3449520"/>
              <a:ext cx="4536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11560" y="361800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743360" y="4282920"/>
              <a:ext cx="1694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19480" y="3282840"/>
              <a:ext cx="230796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24440" y="321948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42000" y="338472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32240" y="363852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16400" y="405936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040" y="416880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95640" y="400356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43360" y="429588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472428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08440" y="519732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05160" y="594360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648320"/>
              <a:ext cx="4568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52880" y="544032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2880" y="533412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76560" y="586728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28600" y="152280"/>
            <a:ext cx="7315200" cy="9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se the figure to answer the follow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Line LO another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Ray SK another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 pair of opposite r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wo different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 line that is skew to Line P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intersection of Line LO and Line P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intersection of Line KT with Plane JN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intersection of Line RQ with Plane RP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intersection of Line LO with Plane MP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intersection of Plane RTS with Plane LM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following groups of points collin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,T,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,J,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,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,N,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,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following groups of points coplan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,N,J,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LN and Line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RQ and Line 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,Q,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,N,O,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se 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 Black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figure to answer the following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 angle that makes a linear pair with &lt;FH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 angle that makes a linear pair with &lt;DH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 angle complementary to &lt;D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 angle vertical to &lt;FH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 angle adjacent to &lt;EH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m&lt;DHC = m&lt;DHE, then ______ is an angle bisector of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 angle that is supplementary to &lt;EH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09960" y="7010280"/>
            <a:ext cx="2581200" cy="1733400"/>
            <a:chOff x="4809960" y="7010280"/>
            <a:chExt cx="2581200" cy="1733400"/>
          </a:xfrm>
        </p:grpSpPr>
        <p:grpSp>
          <p:nvGrpSpPr>
            <p:cNvPr id="72" name=""/>
            <p:cNvGrpSpPr/>
            <p:nvPr/>
          </p:nvGrpSpPr>
          <p:grpSpPr>
            <a:xfrm>
              <a:off x="4809960" y="7010280"/>
              <a:ext cx="2581200" cy="1733400"/>
              <a:chOff x="4809960" y="7010280"/>
              <a:chExt cx="2581200" cy="1733400"/>
            </a:xfrm>
          </p:grpSpPr>
          <p:sp>
            <p:nvSpPr>
              <p:cNvPr id="73" name=""/>
              <p:cNvSpPr/>
              <p:nvPr/>
            </p:nvSpPr>
            <p:spPr>
              <a:xfrm>
                <a:off x="4809960" y="7924680"/>
                <a:ext cx="258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419440" y="7076880"/>
                <a:ext cx="1343160" cy="166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6105240" y="701028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56320" y="84992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89680" y="790884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746680" y="74894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80040" y="73465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384520" y="790884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80040" y="790884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209920" y="791496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38840" y="78865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29280" y="725796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305400" y="840096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43520" y="77054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505480" y="7429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105240" y="7839000"/>
              <a:ext cx="114480" cy="8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0:51:15Z</dcterms:created>
  <dc:creator> </dc:creator>
  <dc:description/>
  <dc:language>en-US</dc:language>
  <cp:lastModifiedBy>Carri Carver</cp:lastModifiedBy>
  <dcterms:modified xsi:type="dcterms:W3CDTF">2008-08-15T18:01:34Z</dcterms:modified>
  <cp:revision>2</cp:revision>
  <dc:subject/>
  <dc:title>Slide 1</dc:title>
</cp:coreProperties>
</file>